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gif" ContentType="image/gif"/>
  <Override PartName="/ppt/media/image20.jpeg" ContentType="image/jpeg"/>
  <Override PartName="/ppt/media/image21.png" ContentType="image/png"/>
  <Override PartName="/ppt/media/image2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13.png" ContentType="image/png"/>
  <Override PartName="/ppt/media/image33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30.wmf" ContentType="image/x-wmf"/>
  <Override PartName="/ppt/media/image6.jpeg" ContentType="image/jpeg"/>
  <Override PartName="/ppt/media/image32.wmf" ContentType="image/x-wmf"/>
  <Override PartName="/ppt/media/image31.wmf" ContentType="image/x-wmf"/>
  <Override PartName="/ppt/media/image7.jpeg" ContentType="image/jpeg"/>
  <Override PartName="/ppt/media/image34.wmf" ContentType="image/x-wmf"/>
  <Override PartName="/ppt/media/image38.gif" ContentType="image/gif"/>
  <Override PartName="/ppt/media/image5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gif" ContentType="image/gif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12B-FAD1-42C0-B03D-20853B78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9E0-3D19-4F6D-91B6-040A1A1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4EA-97D5-46BD-BE4B-10180399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91C-BF9A-4FA2-A3F4-555E7908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C0F68-490B-43F5-A412-828DEDF22A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88E1C-099E-421D-B5B5-6ED6096451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A9E92-593C-4886-A93C-74F4AE974A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50CE9-957A-4EC2-8920-A9BE5DDBC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EB78D-BFDB-46DA-A4AA-F7CBEE3A55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5C235-B674-4E1F-9902-4E7E416AF8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2BDF0-CEFE-49CF-BF3B-3C7B64DE6E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C2E-78B9-40D4-A42D-A16D30F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3728C-0A82-40C3-B0A1-3E5706BBDF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0BC03-7391-43E7-9D3A-43ADE5F454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D8909-F364-4D56-93F6-0E3E11330D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04DE3-DB5F-4EB2-ADD1-AB155F53F1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247FA-813B-4573-868A-A0B617CA3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CAA-096D-4571-A000-91AB321C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55B-E2EC-49EF-9618-0AADD187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867-1A20-41A8-9BB3-9130D3E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AFF-AC00-487F-83CD-AA0A1F67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D77-7F1F-40C5-9F74-D2A4904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E7E-29A9-458B-86E3-C6352D57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A17-33F5-44E9-BB80-04826AE5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AE34-D076-47C4-BC67-6B13263F5C41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089E-7B37-4558-AEAD-B80585248AB8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77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637000"/>
            <a:ext cx="8497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следование потребительской корзины жителей посёлка Седано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МОУ «Седановская средняя общеобразовательная школа»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5157720"/>
            <a:ext cx="6121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втор:                                       Козловская Ирина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ученица 10 класса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учный руководитель:       Боровская Татьяна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Андреевна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оциально-демографиески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рупп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селен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145" t="6259" r="4139" b="4449"/>
          <a:stretch/>
        </p:blipFill>
        <p:spPr>
          <a:xfrm>
            <a:off x="3564000" y="2421000"/>
            <a:ext cx="2520720" cy="2031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17002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требительская корзина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3933720"/>
            <a:ext cx="86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68360" y="3357720"/>
            <a:ext cx="115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3357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458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41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оспособное населени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31417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сионер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5229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оимость потребительской корзин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032000" cy="32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0" y="3716280"/>
            <a:ext cx="79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005360"/>
            <a:ext cx="79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350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653 руб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ссортимент продуктов пита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255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Хлебные продукты: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1413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184464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каронные изделия 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2060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бовые 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227664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</a:t>
            </a:r>
            <a:r>
              <a:rPr b="0" lang="en-US" sz="1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492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ечка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71628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Картофель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Овощи и бахчевые: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3141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33577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35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3789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Фрукты свежи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4149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наны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4365720"/>
            <a:ext cx="11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блоки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4581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ндарины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86900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ахар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кондитерские изделия (печенье)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1484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ясопродукты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1341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ица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арш 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2060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Рыбопродукты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191628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буша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96360" y="2205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ва 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2492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олоко молокопродукты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2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3860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асло растительное и другие жиры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4941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Другие продук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48360" y="47242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4941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й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229360"/>
            <a:ext cx="201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еции                          Универсальная приправа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500"/>
                            </p:stCondLst>
                            <p:childTnLst>
                              <p:par>
                                <p:cTn id="4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000"/>
                            </p:stCondLst>
                            <p:childTnLst>
                              <p:par>
                                <p:cTn id="4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500"/>
                            </p:stCondLst>
                            <p:childTnLst>
                              <p:par>
                                <p:cTn id="4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9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РЫНОК ПРОДУКТОВ ПИТА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9159" t="19286" r="8806" b="5840"/>
          <a:stretch/>
        </p:blipFill>
        <p:spPr>
          <a:xfrm>
            <a:off x="250920" y="4292640"/>
            <a:ext cx="3529080" cy="2352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24000" y="270828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АСТАСИЯ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37162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БРАТЧАНКА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46530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АНГАРСКИЙ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551664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БЕРЁЗКА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773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ТОВАЯ БАЗА Г. БРАТСК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236000" y="2276640"/>
            <a:ext cx="1741320" cy="230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бъём потребления продуктов питания в месяц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0" t="0" r="74846" b="68743"/>
          <a:stretch/>
        </p:blipFill>
        <p:spPr>
          <a:xfrm>
            <a:off x="8101080" y="5950080"/>
            <a:ext cx="104292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68360" y="1628640"/>
          <a:ext cx="7920000" cy="4149720"/>
        </p:xfrm>
        <a:graphic>
          <a:graphicData uri="http://schemas.openxmlformats.org/drawingml/2006/table">
            <a:tbl>
              <a:tblPr/>
              <a:tblGrid>
                <a:gridCol w="3811320"/>
                <a:gridCol w="954360"/>
                <a:gridCol w="1339560"/>
                <a:gridCol w="1051200"/>
                <a:gridCol w="763560"/>
              </a:tblGrid>
              <a:tr h="420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отребления (в среднем на одного человека в месяц)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способное население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ер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ные продукты (хлеб и макаронные изделия в пересчете на муку, мука, крупы, бобовые)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 и бахчевые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ы свежие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 и кондитерские изделия в пересчете на сахар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и молокопродукты в пересчете на молоко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 растительное, маргарин и другие жиры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одукты (соль, чай, специи)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0" y="55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rcRect l="49806" t="30441" r="23428" b="37299"/>
          <a:stretch/>
        </p:blipFill>
        <p:spPr>
          <a:xfrm>
            <a:off x="0" y="836640"/>
            <a:ext cx="900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925"/>
                            </p:stCondLst>
                            <p:childTnLst>
                              <p:par>
                                <p:cTn id="5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925"/>
                            </p:stCondLst>
                            <p:childTnLst>
                              <p:par>
                                <p:cTn id="5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925"/>
                            </p:stCondLst>
                            <p:childTnLst>
                              <p:par>
                                <p:cTn id="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редняя стоимость продуктов питания для трудоспособного населени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71640" y="1628640"/>
          <a:ext cx="7488000" cy="4027320"/>
        </p:xfrm>
        <a:graphic>
          <a:graphicData uri="http://schemas.openxmlformats.org/drawingml/2006/table">
            <a:tbl>
              <a:tblPr/>
              <a:tblGrid>
                <a:gridCol w="2663640"/>
                <a:gridCol w="1071720"/>
                <a:gridCol w="974520"/>
                <a:gridCol w="962280"/>
                <a:gridCol w="998280"/>
                <a:gridCol w="817560"/>
              </a:tblGrid>
              <a:tr h="25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итания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база г. Братск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ёлок   Седаново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стасия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атчанка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гарский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рёзка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Хлебные продукты: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.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,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,2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ртофель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вощи и бахчёвые: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рукты свежие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ахар кондитерские изделия (печенье)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яс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ыб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7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локо молок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Яйца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Масло растительное и другие жиры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Другие 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2,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0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2,0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4,1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4,7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"/>
          <p:cNvPicPr/>
          <p:nvPr/>
        </p:nvPicPr>
        <p:blipFill>
          <a:blip r:embed="rId2"/>
          <a:srcRect l="76574" t="14336" r="277" b="31448"/>
          <a:stretch/>
        </p:blipFill>
        <p:spPr>
          <a:xfrm>
            <a:off x="0" y="620640"/>
            <a:ext cx="932040" cy="93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17292" t="9084" r="33966" b="24150"/>
          <a:stretch/>
        </p:blipFill>
        <p:spPr>
          <a:xfrm>
            <a:off x="7956720" y="5842080"/>
            <a:ext cx="11872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500"/>
                            </p:stCondLst>
                            <p:childTnLst>
                              <p:par>
                                <p:cTn id="6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редняя стоимость продуктов питания для пенсионеров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26920" y="1844640"/>
          <a:ext cx="7128000" cy="3657600"/>
        </p:xfrm>
        <a:graphic>
          <a:graphicData uri="http://schemas.openxmlformats.org/drawingml/2006/table">
            <a:tbl>
              <a:tblPr/>
              <a:tblGrid>
                <a:gridCol w="2519640"/>
                <a:gridCol w="1041120"/>
                <a:gridCol w="924120"/>
                <a:gridCol w="917640"/>
                <a:gridCol w="946080"/>
                <a:gridCol w="77940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итания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база г. Братск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ёлок   Седаново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стасия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атчанка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гарский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рёзка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Хлебные продукты: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ртофель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вощи и бахчёвые: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рукты свежие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ахар кондитерские изделия (печенье)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яс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ыб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локо молок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6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6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Яйца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Масло растительное и другие жиры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Другие 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4,5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1,6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3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9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2"/>
          <a:srcRect l="10611" t="6028" r="39467" b="44025"/>
          <a:stretch/>
        </p:blipFill>
        <p:spPr>
          <a:xfrm>
            <a:off x="0" y="692280"/>
            <a:ext cx="1332000" cy="1000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19486" t="0" r="30732" b="35279"/>
          <a:stretch/>
        </p:blipFill>
        <p:spPr>
          <a:xfrm>
            <a:off x="7885080" y="5802480"/>
            <a:ext cx="12589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3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редняя стоимость продуктов питания для дете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1844640"/>
          <a:ext cx="7139160" cy="3826080"/>
        </p:xfrm>
        <a:graphic>
          <a:graphicData uri="http://schemas.openxmlformats.org/drawingml/2006/table">
            <a:tbl>
              <a:tblPr/>
              <a:tblGrid>
                <a:gridCol w="2521080"/>
                <a:gridCol w="1044720"/>
                <a:gridCol w="930240"/>
                <a:gridCol w="914400"/>
                <a:gridCol w="950760"/>
                <a:gridCol w="77796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итания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база г. Братск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ёлок   Седаново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стасия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атчанка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гарский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рёзка»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Хлебные продукты: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1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ртофель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вощи и бахчёвые: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рукты свежие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,5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ахар кондитерские изделия (печенье)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яс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ыб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локо молоко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Яйца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Масло растительное и другие жиры 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Другие продукты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6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1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6,8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1,3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5,4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9,1</a:t>
                      </a:r>
                      <a:endParaRPr b="0" lang="en-US" sz="10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rcRect l="15315" t="20220" r="42256" b="16695"/>
          <a:stretch/>
        </p:blipFill>
        <p:spPr>
          <a:xfrm>
            <a:off x="7740720" y="5634000"/>
            <a:ext cx="1403280" cy="1224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1763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3192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770a"/>
                </a:solidFill>
                <a:latin typeface="Arial"/>
              </a:rPr>
              <a:t>Трасса Братск – Усть-Илимск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0" t="15641" r="50005" b="0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1857600" cy="1285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0" y="306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дано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 rot="10870200">
            <a:off x="6442920" y="551664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атс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6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38 0.06497 C 0.10781 0.0726 0.10712 0.09641 0.10139 0.11144 C 0.09566 0.12647 0.08212 0.13849 0.07535 0.15583 C 0.06858 0.17318 0.05156 0.19468 0.06042 0.21572 C 0.06927 0.23676 0.11372 0.25225 0.12865 0.28231 C 0.14358 0.3126 0.15608 0.35583 0.15035 0.39583 C 0.14462 0.43583 0.10556 0.49595 0.09375 0.52254 E">
                                      <p:cBhvr>
                                        <p:cTn id="701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75 0.52246 C 0.11354 0.47662 0.13333 0.43056 0.13351 0.38727 C 0.13368 0.34399 0.11285 0.29121 0.09531 0.26274 C 0.07778 0.23426 0.0342 0.24375 0.02865 0.21598 C 0.02309 0.1882 0.05642 0.11297 0.06198 0.09561 C 0.06754 0.07801 0.06181 0.10996 0.06198 0.11019 C 0.06215 0.11042 0.06337 0.10047 0.06354 0.09769 E">
                                      <p:cBhvr>
                                        <p:cTn id="704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став и статус семьи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064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группа – всего 4 человека, из них 2  трудоспособного возраста, 2  ребёнка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13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группа – всего 3 человека, из них 2   трудоспособного  возраста, 1 ребёнок;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2781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группа – всего  2 человека, оба пенсионеры;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3284640"/>
            <a:ext cx="758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группа – всего 2 человека, из них 1 трудоспособного возраста, 1  ребёнок;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4005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группа – всего 5 человек, из них 2  трудоспособного возраста, 3  ребёнка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797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группа – всего 4 человека, из них 3  трудоспособного возраста, 1  ребёнок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55897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группа – всего 1 человек, пенсионер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7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500"/>
                            </p:stCondLst>
                            <p:childTnLst>
                              <p:par>
                                <p:cTn id="7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Введение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Определение понятия «потребительская корзина». Состав потребительской корзины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Исследование рынка продуктов питания в поселке Седаново и городе Братске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Затраты на приобретение продуктов питания по составу семьи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Исследование предпочтений и возможностей жителей посёлка при приобретении продуктов пита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Заключение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Список использованной литературы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Приложение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72360" y="4702320"/>
            <a:ext cx="277164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группа  - 2 трудоспособного возраста, 2 ребёнк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9134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группа – 2  трудоспособного возраста, 1 ребёно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261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группа  –   2  пенсионер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58920" y="1544760"/>
            <a:ext cx="633744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группа  – 1 трудоспособного возраста, 1  ребёно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403280" y="1789200"/>
            <a:ext cx="6264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группа –2  трудоспособного возраста, 3  ребён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19280" y="1425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группа –3  трудоспособного возраста, 1  ребёно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5975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 группа – 1 человек, пенсионе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692360" y="1384200"/>
            <a:ext cx="590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нкет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454400"/>
            <a:ext cx="7850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какой группе вы относитесь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1 группа:  2 трудоспособных + 2 ребенка (до 16 лет)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2 группа:  2 трудоспособных + 1 ребенок (до 16 лет)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3 группа:  2 пенсионера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4 группа:  1 трудоспособный + 1 ребенок (до 16 лет)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) 5 группа:  2 трудоспособных + 3 ребенка (до 16 лет)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) 6 группа:  3 трудоспособных + 1 ребенок (до 16 лет)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ё) 7 группа:  1 пенсионер: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де приобретаете продукты питания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1360"/>
                <a:tab algn="l" pos="1889280"/>
                <a:tab algn="l" pos="242244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ему делаете покупки именно там?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ССЛЕДОВАНИЕ ПРЕДПОЧТЕНИЙ И ВОЗМОЖНОСТЕЙ ЖИТЕЛЕЙ ПОСЁЛ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99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4c06"/>
                </a:solidFill>
                <a:latin typeface="Arial"/>
              </a:rPr>
              <a:t>По статистике женщине по нормам корзины на год полагается всего одна юбка и блуза, две пары обув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15560"/>
            <a:ext cx="8229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оценке теоретиков, стоимость минимального набора продуктов питания на месяц составляет 1500 руб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2924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4c06"/>
                </a:solidFill>
                <a:latin typeface="Arial"/>
              </a:rPr>
              <a:t>костюм носить  5 лет,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4c06"/>
                </a:solidFill>
                <a:latin typeface="Arial"/>
              </a:rPr>
              <a:t>брюки — 4 год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40053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4c06"/>
                </a:solidFill>
                <a:latin typeface="Arial"/>
              </a:rPr>
              <a:t>На услуги культуры один человек должен тратить 45,5 рублей в месяц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530064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4c06"/>
                </a:solidFill>
                <a:latin typeface="Arial"/>
              </a:rPr>
              <a:t>На год один флакон шампуня и два куска мыла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236000" y="2852640"/>
            <a:ext cx="1779480" cy="2036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22338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6923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6a09"/>
                </a:solidFill>
                <a:latin typeface="Arial"/>
              </a:rPr>
              <a:t>Проблема выбора</a:t>
            </a: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одна из главных проблем, стоящих перед человеком. Так ежедневно мы сталкиваемся с проблемой выбора продуктов питания, с тем, чтобы купить недорогие и качественные продукты, правильно определиться с местом приобретения товаров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84720" y="4211640"/>
            <a:ext cx="3059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5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5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80360" y="5516640"/>
            <a:ext cx="1008000" cy="839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916360" y="2276640"/>
            <a:ext cx="3887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4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91628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770a"/>
                </a:solidFill>
                <a:latin typeface="Arial"/>
              </a:rPr>
              <a:t>«Основу всех человеческих потребностей составляют физиологические потребности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3600" spc="-1" strike="noStrike">
                <a:solidFill>
                  <a:srgbClr val="f68f28"/>
                </a:solidFill>
                <a:latin typeface="Arial"/>
              </a:rPr>
              <a:t>Абрахам Масло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82428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62251" r="71504" b="913"/>
          <a:stretch/>
        </p:blipFill>
        <p:spPr>
          <a:xfrm>
            <a:off x="6637320" y="4917960"/>
            <a:ext cx="2506680" cy="1940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72707" t="0" r="0" b="68666"/>
          <a:stretch/>
        </p:blipFill>
        <p:spPr>
          <a:xfrm>
            <a:off x="539640" y="189000"/>
            <a:ext cx="122400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1125000"/>
            <a:ext cx="7272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требительская корзина -</a:t>
            </a:r>
            <a:r>
              <a:rPr b="1" lang="en-US" sz="36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Принятый в каждой стране расчётный годовой набор товаров и услуг, потребление которого обеспечивает необходимый уровень жизни населен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27280" y="3949560"/>
            <a:ext cx="3889440" cy="2908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5c08"/>
                </a:solidFill>
                <a:latin typeface="Arial"/>
              </a:rPr>
              <a:t>Изучение понятия «потребительская корзина»,её состава,  исследование рынка продуктов питания посёлка Седаново и города Братска, определение минимальной стоимости продуктов питания для жителей посёлка</a:t>
            </a:r>
            <a:r>
              <a:rPr b="1" lang="en-US" sz="1600" spc="-1" strike="noStrike">
                <a:solidFill>
                  <a:srgbClr val="b05c08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3348000" cy="2637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4219560"/>
            <a:ext cx="3276720" cy="2638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8200" y="398520"/>
            <a:ext cx="19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ЕЛЬ: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Рассмотреть понятие – потребительская корзина (определение, состав, Закон РФ)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Определить стоимость необходимых продуктов питания в месяц на человека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Исследовать рынок продуктов питания в посёлке и в городе Братске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Рассчитать стоимость продуктов питания по составу и статусу семь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770a"/>
                </a:solidFill>
                <a:latin typeface="Arial"/>
              </a:rPr>
              <a:t>Определить предпочтения и возможности жителей посёлка при приобретении продуктов питания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9640" y="4871880"/>
            <a:ext cx="3024360" cy="19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59640" y="4076640"/>
            <a:ext cx="10080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1628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484280"/>
            <a:ext cx="75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МЕТОДЫ: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24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Изучение научной и практической литературы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24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Анкетирование жителей поселка Седанов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24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Составление таблиц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24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Проведение расчетов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24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24c06"/>
                </a:solidFill>
                <a:latin typeface="Arial"/>
              </a:rPr>
              <a:t>Построение диаграмм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3640" y="4581360"/>
            <a:ext cx="2160720" cy="187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остав</a:t>
            </a:r>
            <a:r>
              <a:rPr b="1" i="1" lang="en-US" sz="3200" spc="-1" strike="noStrike">
                <a:solidFill>
                  <a:srgbClr val="fcdcb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требительской корзины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1873080" cy="1873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27280" y="16286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требительская корзина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24000" y="3284640"/>
            <a:ext cx="1224000" cy="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292640"/>
            <a:ext cx="0" cy="72072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3284640"/>
            <a:ext cx="1224000" cy="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306864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92428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укты питания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2997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родовольст-венные товары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5084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781360"/>
            <a:ext cx="1582560" cy="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781360"/>
            <a:ext cx="0" cy="100800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2781360"/>
            <a:ext cx="0" cy="100800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3789360"/>
            <a:ext cx="1582560" cy="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2924280"/>
            <a:ext cx="0" cy="93636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93080" y="2924280"/>
            <a:ext cx="0" cy="93636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3860640"/>
            <a:ext cx="2233440" cy="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2924280"/>
            <a:ext cx="2233440" cy="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5084640"/>
            <a:ext cx="1081080" cy="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589720"/>
            <a:ext cx="1081080" cy="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5084640"/>
            <a:ext cx="0" cy="50508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5084640"/>
            <a:ext cx="0" cy="505080"/>
          </a:xfrm>
          <a:prstGeom prst="line">
            <a:avLst/>
          </a:prstGeom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2089080" cy="14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7:46:58Z</dcterms:created>
  <dc:creator>User</dc:creator>
  <dc:description/>
  <cp:keywords/>
  <dc:language>en-US</dc:language>
  <cp:lastModifiedBy>Админ</cp:lastModifiedBy>
  <dcterms:modified xsi:type="dcterms:W3CDTF">2011-01-28T08:04:26Z</dcterms:modified>
  <cp:revision>5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